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61C8-1EC8-442D-A20B-1B3B5A1A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A6E8-ACFA-42B2-8072-D0592D8B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820-112D-4F8C-9CA1-07E11B75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9CC-39B7-4793-AB9A-8BA88E170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0C30-8D8E-49F8-9DE2-B1038A8B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91E9-122D-4A21-882B-711BF754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lack arrow squamo-columnar jxn—Z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Z-line has undulating smooth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reen arrow—gastric columnar epithelium above round black sphin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ed arow—pink white esophageal squamous epit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ulcerations in 2-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AEB7-6128-4B7E-B6DA-73755776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20% of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F23-FF86-4AE3-9AE8-7C1BA481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E9F-9A41-4EFB-9C2A-33206FC3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1950—Norman Barr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10-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lack arrow squamo-columnar jxn—Z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Z-line has undulating smooth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reen arrow—gastric columnar epithelium above round black sphin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ed arow—pink white esophageal squamous epit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Fs—male, smoker, age, ob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5E2-4C55-4F73-BC7E-61EC4997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F08-BC86-4714-BDEE-360590F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B30-2542-42E9-B275-B3DEB486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3BB-25B0-4C16-B057-722F7320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C43-889E-42E5-BF3A-D710ABCC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CFD-C62C-4A2A-AAD2-9B28913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657-B3EE-4643-951C-6F4F93B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DDB-AE4F-4289-9BC6-33E8B950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3B8-A49E-4F32-B332-2CF293B0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C4A-F512-488D-8587-4CC70A9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A57-26F9-451D-8AF7-8F263D5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649-96A2-4971-AB2F-2B25EE5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1ED8-3503-4EE2-ACD1-690A0C3D1E56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stroesophageal Reflux Disease (GER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5867280" y="380880"/>
            <a:ext cx="2971800" cy="754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al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Inflammatory cellular infiltrate in the squamous epithelium including neutrophils, esinophils and lymphoc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Basal cell hyperpla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Acute inflammation of the sub epithelium (lamina prop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2FD9-FAE5-41F3-80B7-424EB5843C0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67720" cy="65055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E93-539D-40A7-88BA-CACAD34296D1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Right Arrow 6" descr=""/>
          <p:cNvPicPr/>
          <p:nvPr/>
        </p:nvPicPr>
        <p:blipFill>
          <a:blip r:embed="rId2"/>
          <a:stretch/>
        </p:blipFill>
        <p:spPr>
          <a:xfrm>
            <a:off x="4694400" y="1285920"/>
            <a:ext cx="54756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47120" cy="64101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432-1F42-476C-B8BD-85CB7E818F6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ight Arrow 3" descr=""/>
          <p:cNvPicPr/>
          <p:nvPr/>
        </p:nvPicPr>
        <p:blipFill>
          <a:blip r:embed="rId2"/>
          <a:stretch/>
        </p:blipFill>
        <p:spPr>
          <a:xfrm>
            <a:off x="7705800" y="2657520"/>
            <a:ext cx="54288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Clinical Manifestations of GERD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D is most common in adults older than 40 years of age but also occurs in infants and childr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frequently reported symptoms 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4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Heartbur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retrosternal burning discomfort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rely, chronic GERD is punctuated by attacks of severe chest pain that may be mistaken for heart dise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012B-FC18-459A-B755-1FF1BE705CA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685800"/>
            <a:ext cx="8610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2. Regurgit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fortless return of sour-tasting gastric contents into the pharynx without nausea, or abdominal contraction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be differentiated from vom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3. Dysphagi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iculty in 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4. Extra-esophageal manifesta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yngitis, chronic c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A83-5546-4F8C-933C-0CA3FC42DC9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2392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GE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osive esophag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ure of esophagus due to healing by fibr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ett’s esophag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6311-45C2-4E40-8146-ED9C6DEE559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Calibri"/>
              </a:rPr>
              <a:t>Esophagogastrodudenosco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22093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dications (with biopsy if need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patients with alarm signs/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ose who fail a medication t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ose who require long-term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Investigation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B5E9-A8F9-41F5-905B-C82FE2A5677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107" name="Picture 5" descr="ei_25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9D1-1952-40FB-8FA0-214ED8CAA47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osive esophagit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40-60% of GERD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fig1_erosive_eso"/>
          <p:cNvPicPr/>
          <p:nvPr/>
        </p:nvPicPr>
        <p:blipFill>
          <a:blip r:embed="rId1"/>
          <a:stretch/>
        </p:blipFill>
        <p:spPr>
          <a:xfrm>
            <a:off x="1114560" y="1905120"/>
            <a:ext cx="6451560" cy="46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A0A-57B4-4210-9E08-442E44B2652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6320" y="22824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sophageal stri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sult of healing of erosive esophag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y need dila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getImage"/>
          <p:cNvPicPr/>
          <p:nvPr/>
        </p:nvPicPr>
        <p:blipFill>
          <a:blip r:embed="rId1"/>
          <a:stretch/>
        </p:blipFill>
        <p:spPr>
          <a:xfrm>
            <a:off x="3733920" y="281952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355-7DB5-40E6-BD42-BC215770EBC0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45684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efinition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ammation of the lower part of the esophagus due to abnormal reflux of gastric contents into the esophag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ue to weakness of the lower esophageal sphincter (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gastroesophageal_reflux"/>
          <p:cNvPicPr/>
          <p:nvPr/>
        </p:nvPicPr>
        <p:blipFill>
          <a:blip r:embed="rId1"/>
          <a:stretch/>
        </p:blipFill>
        <p:spPr>
          <a:xfrm>
            <a:off x="380880" y="2514600"/>
            <a:ext cx="830592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706-4D0D-4CEB-8191-2894016A1CE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2280" y="7621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Barrett’s Esophagu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formation of the stratified squamous epithelium of the lower end of the esophagus into intestinal epithelium (glandular metaplas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clinical significance of Barrett’s Esophagus is that it is associated with the development of dysplasia and subsequently adeno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154-1D9E-45AE-997A-BB0FFF78313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24844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EA3-1B0C-4D86-8F0C-ED1CC0133B3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EC4-1BFE-4BCA-B0F0-2594A1231F6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536920" y="474840"/>
            <a:ext cx="5083200" cy="5651280"/>
          </a:xfrm>
          <a:prstGeom prst="rect">
            <a:avLst/>
          </a:prstGeom>
          <a:ln w="0">
            <a:noFill/>
          </a:ln>
        </p:spPr>
      </p:pic>
      <p:sp>
        <p:nvSpPr>
          <p:cNvPr id="129" name="Right Arrow 5"/>
          <p:cNvSpPr/>
          <p:nvPr/>
        </p:nvSpPr>
        <p:spPr>
          <a:xfrm rot="19750200">
            <a:off x="46080" y="2382840"/>
            <a:ext cx="3038400" cy="1019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rmal gastro-esophageal j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Arrow 6"/>
          <p:cNvSpPr/>
          <p:nvPr/>
        </p:nvSpPr>
        <p:spPr>
          <a:xfrm rot="18594000">
            <a:off x="4713120" y="2971440"/>
            <a:ext cx="2401920" cy="893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rrett’s esophag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39617" t="0" r="0" b="0"/>
          <a:stretch/>
        </p:blipFill>
        <p:spPr>
          <a:xfrm>
            <a:off x="1066680" y="1143000"/>
            <a:ext cx="7016760" cy="49863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B02A-1C97-4E55-8F18-C44B149935F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ashawky\Desktop\9655_303966136376490_1714807148_n.jpg"/>
          <p:cNvPicPr/>
          <p:nvPr/>
        </p:nvPicPr>
        <p:blipFill>
          <a:blip r:embed="rId1"/>
          <a:stretch/>
        </p:blipFill>
        <p:spPr>
          <a:xfrm>
            <a:off x="743040" y="914400"/>
            <a:ext cx="7431120" cy="8150400"/>
          </a:xfrm>
          <a:prstGeom prst="rect">
            <a:avLst/>
          </a:prstGeom>
          <a:ln w="0">
            <a:noFill/>
          </a:ln>
        </p:spPr>
      </p:pic>
      <p:grpSp>
        <p:nvGrpSpPr>
          <p:cNvPr id="137" name="Rectangle 2"/>
          <p:cNvGrpSpPr/>
          <p:nvPr/>
        </p:nvGrpSpPr>
        <p:grpSpPr>
          <a:xfrm>
            <a:off x="195120" y="5505480"/>
            <a:ext cx="8479080" cy="828720"/>
            <a:chOff x="195120" y="5505480"/>
            <a:chExt cx="8479080" cy="828720"/>
          </a:xfrm>
        </p:grpSpPr>
        <p:pic>
          <p:nvPicPr>
            <p:cNvPr id="138" name="Rectangle 2" descr=""/>
            <p:cNvPicPr/>
            <p:nvPr/>
          </p:nvPicPr>
          <p:blipFill>
            <a:blip r:embed="rId2"/>
            <a:stretch/>
          </p:blipFill>
          <p:spPr>
            <a:xfrm>
              <a:off x="195120" y="5505480"/>
              <a:ext cx="8479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04920" y="5562720"/>
              <a:ext cx="8305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Verdana"/>
                </a:rPr>
                <a:t>References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6092"/>
                  </a:solidFill>
                  <a:latin typeface="Verdana"/>
                </a:rPr>
                <a:t>Robbins and Cotran’s: Pathologic Basis of Disease.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A7FC-69D0-4EC8-9C3A-B93250FD7F0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Patho-physiology of GE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ratified squamous epithelium of the esophagus is resistant to abrasion from foods but is sensitive to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mucosal glands of the proximal and distal esophagus contribute to mucosal protection by secreting mucin and bicarbon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3805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(lower esophageal sphincter) LES tone prevents reflux of acidic gastric contents, which are under positive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ux of gastric contents into the lower esophagus is the most frequent cause of esophagitis and the most common outpatient gastrointestinal diagn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s that decrease LES tone or increase abdominal pressure contribute to GE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F97-09F8-49AB-B35A-B7C91CFAC47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ADBD-0831-481D-950A-1F2EF83182E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" descr="C:\Users\ashawky\Desktop\stomach anatomy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Risk factor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besit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regnancy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elayed stomach empty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creased gastric volu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o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lcoholis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entral nervous system depress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liding Hiatal hern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 many cases, no definitive cause is identifi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30120" y="1447920"/>
            <a:ext cx="8628120" cy="390996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C6F-7507-47B1-BDBC-95E193B17C5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orphological features of GER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* Grossl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lower part of the esophagus is red, and may shows ero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04920" y="366840"/>
            <a:ext cx="8448480" cy="626256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C1B-6FC1-4176-BB72-FADAD22327F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ight Arrow 3"/>
          <p:cNvSpPr/>
          <p:nvPr/>
        </p:nvSpPr>
        <p:spPr>
          <a:xfrm rot="2302200">
            <a:off x="1720440" y="162216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ight Arrow 7"/>
          <p:cNvSpPr/>
          <p:nvPr/>
        </p:nvSpPr>
        <p:spPr>
          <a:xfrm rot="11857800">
            <a:off x="4586400" y="5201640"/>
            <a:ext cx="979200" cy="4842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2:10:14Z</dcterms:created>
  <dc:creator>Howard J. McGowan</dc:creator>
  <dc:description/>
  <dc:language>en-US</dc:language>
  <cp:lastModifiedBy>Jihan Abdelmenam</cp:lastModifiedBy>
  <dcterms:modified xsi:type="dcterms:W3CDTF">2016-09-28T08:15:49Z</dcterms:modified>
  <cp:revision>113</cp:revision>
  <dc:subject/>
  <dc:title>Gastroesophageal Reflux Disease</dc:title>
</cp:coreProperties>
</file>